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B07-1B09-4CCE-A263-83FC0A42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EB4-3F92-47E9-8B7C-ECB08F7B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146-C830-40D0-BDFD-69384618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FE3-4DD4-4CD0-A49A-2F79409A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9E29-2FA4-4550-8A1B-D7F9EAFC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8EA9-FDB0-4F68-AB15-E6A41669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90FC-C480-46C8-B744-9E9C0B2C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5942-ADE2-4D78-8EA7-AEEB330C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B1D-BB57-4123-8695-8540839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0B90-D105-440A-A177-EECEEA55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EB2-9AFE-4CBA-AA64-0FAB8BAF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C6E-B4E0-41B7-A79E-AC52274E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C2CE-13B8-4F32-BE5F-8BDE6CC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3A3C-10D0-4C0F-84F1-623659D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C224-661B-474B-BD7D-E387FE7A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0F27-2901-4E1D-80AF-0CEF66B8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FC0C-BFDC-4C12-B438-42C3889F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1F8-FB44-46A9-A204-1E6E263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274-0D19-4E3E-9918-5DE850C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349-4071-4EAD-A02F-81F23CFE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C73-73E0-499C-8D00-1A63DEE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D23-97F5-44CD-8D45-6043F752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005-C789-4D7F-8B3F-134AD0C5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6F9-129F-4944-AD9C-7ADCBF89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0D55-9CDC-4C84-87F3-1007558C71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2136-C617-44B5-8864-D0A617302F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Охрана окружающей среды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ов пояснительной записки ПОС и ППР в части мероприятий по охране окружающей сред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пояснительной записки информацию по следующей тематике: общие требования к мероприятиям по охране окружающей среды; состав и содержание перечня мероприятий по охране окружающей среды; общие экологические требования к обустройству и содержанию строительных площадок; экологические требования к временным сооружениям; оборудование пунктов мойки колес; экологические требования к внутриплощадочным дорогам; инженерным сетям и складским площадкам; экологические требования к производству земляных работ; требования к процессу перемещения грунта и отходов; требования к уборке мусора при производстве строительно-монтажных работ; требования  при сносе зданий и сооружений и ликвидации коммуникаций; создание и охрана зеленых насаждений и по другим аналогичным тема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нов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42840" y="996840"/>
            <a:ext cx="73566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719360"/>
            <a:ext cx="69278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71600" y="129852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фрагмент пояснительной записки ПОС и ППР в части мероприятий по охране окружающей среды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03440" y="1463760"/>
            <a:ext cx="6265800" cy="269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0:11:19Z</dcterms:modified>
  <cp:revision>245</cp:revision>
  <dc:subject/>
  <dc:title>Слайд 1</dc:title>
</cp:coreProperties>
</file>